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E21-7917-4920-BCD4-118796ED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C15-A96B-4411-96A0-9E1C9F49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D783-6E60-40B2-A096-9075A302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2FCC-CB83-4532-8773-FAAE6C0E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8ED4-0E1F-445F-BD44-1C0DAC8A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3DC0-E52E-4838-8EB3-DBD1E828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DA8F-4471-4F68-9DDF-D042A559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BE5C-0F6C-4498-8212-8F47987B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F72-F073-44C1-9C60-02D43AAE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7ECD-3E54-48EB-B3C2-13925BED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A6BC-A503-4B78-A637-C75EA0E8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276F-B4C8-41B3-8EE2-5F6B148D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0FAB-3597-4938-94C8-81CE506D2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d/df/Death_Valley_Tourists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upload.wikimedia.org/wikipedia/en/1/12/Amargosa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upload.wikimedia.org/wikipedia/commons/6/6e/Big_Horn_Sheep.jpg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upload.wikimedia.org/wikipedia/commons/a/af/Canis_latrans.jpg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e/Big_Horn_Sheep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pload.wikimedia.org/wikipedia/en/d/de/Mountain_lion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upload.wikimedia.org/wikipedia/en/1/16/Mountlagunasmall.jpg" TargetMode="External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4/Northern_Spotted_Owl.USFWS-thumb.jpg" TargetMode="External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5/Bobcat_stare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upload.wikimedia.org/wikipedia/commons/8/84/Jtree.jpg" TargetMode="External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e/Big_Horn_Sheep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pload.wikimedia.org/wikipedia/commons/7/77/Big-eared-townsend-fledermaus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upload.wikimedia.org/wikipedia/commons/f/f5/Bobcat_stare.jp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upload.wikimedia.org/wikipedia/commons/a/af/Canis_latrans.jpg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5/Bighorns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upload.wikimedia.org/wikipedia/commons/8/8f/Vista_of_Anza_Borrego.jpg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hyperlink" Target="http://upload.wikimedia.org/wikipedia/commons/0/05/Roadrunner2007.jpg" TargetMode="Externa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8/Steinadler_Aquila_chrysaetos_closeup1_Richard_Bartz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upload.wikimedia.org/wikipedia/commons/6/6e/Big_Horn_Sheep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upload.wikimedia.org/wikipedia/en/e/e7/Crotalus_ruber.jpg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upload.wikimedia.org/wikipedia/en/2/22/D_Iguana.jpg" TargetMode="External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b/b1/SIOpier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en.wikipedia.org/wiki/Image:LaJollaShores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upload.wikimedia.org/wikipedia/commons/2/27/Horn_shark.JPG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en.wikipedia.org/wiki/File:Woda-6_ubt.jpeg" TargetMode="Externa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f/Crabe_de_Martinique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upload.wikimedia.org/wikipedia/commons/7/74/Lobster_NSRW.jpg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upload.wikimedia.org/wikipedia/commons/3/37/Sealuk.jpg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upload.wikimedia.org/wikipedia/en/a/a7/Montereybay.jpg" TargetMode="External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b/Beach_Monterey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upload.wikimedia.org/wikipedia/commons/5/58/Gray_whale.jpg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upload.wikimedia.org/wikipedia/commons/3/37/Killerwhales_jumping.jpg" TargetMode="External"/><Relationship Id="rId6" Type="http://schemas.openxmlformats.org/officeDocument/2006/relationships/image" Target="../media/image27.jpeg"/><Relationship Id="rId7" Type="http://schemas.openxmlformats.org/officeDocument/2006/relationships/hyperlink" Target="http://upload.wikimedia.org/wikipedia/commons/a/a6/Bottlenose_Dolphin_KSC04pd0178.jpg" TargetMode="External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7/Sealuk.jpg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hyperlink" Target="http://upload.wikimedia.org/wikipedia/commons/c/c4/52bear.jpg" TargetMode="Externa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File:Death Valley Touris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3058920" cy="4300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File:Amargos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52840" y="190440"/>
            <a:ext cx="3171960" cy="422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File:Big Horn Sheep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9360" y="4724280"/>
            <a:ext cx="2844720" cy="4267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File:Canis latrans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05320" y="4800600"/>
            <a:ext cx="3073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File:Big Horn Shee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28600"/>
            <a:ext cx="2845080" cy="4267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File:Mountain li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19440" y="0"/>
            <a:ext cx="2933640" cy="4572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File:Mountlagunasmall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4724280"/>
            <a:ext cx="3143160" cy="4191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3400560" y="4629240"/>
            <a:ext cx="33811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File:Northern Spotted Owl.USFWS-thum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52280"/>
            <a:ext cx="2857680" cy="434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File:Kangaroo-rat.jpg"/>
          <p:cNvPicPr/>
          <p:nvPr/>
        </p:nvPicPr>
        <p:blipFill>
          <a:blip r:embed="rId3"/>
          <a:stretch/>
        </p:blipFill>
        <p:spPr>
          <a:xfrm>
            <a:off x="3657600" y="152280"/>
            <a:ext cx="2890800" cy="4343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File:Rana aurora.jpg"/>
          <p:cNvPicPr/>
          <p:nvPr/>
        </p:nvPicPr>
        <p:blipFill>
          <a:blip r:embed="rId4"/>
          <a:stretch/>
        </p:blipFill>
        <p:spPr>
          <a:xfrm>
            <a:off x="380880" y="4648320"/>
            <a:ext cx="2810160" cy="4286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505320" y="5334120"/>
            <a:ext cx="327636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File:Thamnophis elegans terrestris (1).jpg"/>
          <p:cNvPicPr/>
          <p:nvPr/>
        </p:nvPicPr>
        <p:blipFill>
          <a:blip r:embed="rId1"/>
          <a:stretch/>
        </p:blipFill>
        <p:spPr>
          <a:xfrm>
            <a:off x="533520" y="152280"/>
            <a:ext cx="2415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File:Bobcat sta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52280"/>
            <a:ext cx="3143520" cy="4267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557520" y="304920"/>
            <a:ext cx="3033720" cy="3962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File:Jtree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320" y="472428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3575160" y="4648320"/>
            <a:ext cx="3130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File:Big Horn Shee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9360" y="228600"/>
            <a:ext cx="2844720" cy="4267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File:Big-eared-townsend-fledermau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47960" y="76320"/>
            <a:ext cx="2805120" cy="4343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File:Bobcat star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4724280"/>
            <a:ext cx="3143520" cy="4267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File:Canis latrans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05320" y="4800600"/>
            <a:ext cx="3073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File:Bighorn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46440" y="76320"/>
            <a:ext cx="2830680" cy="4343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File:Vista of Anza Borreg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1360" y="76320"/>
            <a:ext cx="3029040" cy="4419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52280" y="4648320"/>
            <a:ext cx="3016440" cy="4419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File:Roadrunner2007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52680" y="4724280"/>
            <a:ext cx="340056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File:Steinadler Aquila chrysaetos closeup1 Richard Bartz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320" y="152280"/>
            <a:ext cx="3328920" cy="4343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File:Big Horn Sheep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228600"/>
            <a:ext cx="2844720" cy="4267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File:Crotalus rube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4648320"/>
            <a:ext cx="3208320" cy="4419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File:D Iguana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05320" y="480060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File:SIOpi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62000"/>
            <a:ext cx="3191040" cy="4257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5600" y="152280"/>
            <a:ext cx="3143160" cy="419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File:Horn shark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464832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11520" y="4724280"/>
            <a:ext cx="3246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File:Crabe de Martiniqu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2757600" cy="4114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File:Lobster NSRW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10160" y="152280"/>
            <a:ext cx="2744640" cy="4191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File:Sealuk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4724280"/>
            <a:ext cx="3000240" cy="4086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File:Montereybay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05320" y="4705200"/>
            <a:ext cx="32716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File:Beach Montere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5228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File:Gray whal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228600"/>
            <a:ext cx="2773080" cy="4343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File:Killerwhales jumping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4724280"/>
            <a:ext cx="2914560" cy="4191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File:Bottlenose Dolphin KSC04pd0178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33920" y="4648320"/>
            <a:ext cx="2916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File:Sealu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3000240" cy="4086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581280" y="22860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72880" y="4724280"/>
            <a:ext cx="2927520" cy="4172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File:52bea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37080" y="5016600"/>
            <a:ext cx="31446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08-12-19T23:20:27Z</dcterms:modified>
  <cp:revision>5</cp:revision>
  <dc:subject/>
  <dc:title>Slide 1</dc:title>
</cp:coreProperties>
</file>